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972-23D4-4FCD-AE94-0C75AA35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A22-BFD3-48F8-9D7D-686B2BC3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F1D-9D26-4C6D-AE2B-4652A5B8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73F-A2AD-4253-885A-4C9557D6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F752-A329-44E3-B3E3-611B4AB6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906A-4B7B-4FE5-ACF6-43C681A2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AC71-160B-40FC-B060-6189B728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FD9A-9EF7-4A08-98BF-AC915102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430F-CEE2-46E3-BAB1-AE591FDA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7FAB-A865-469B-94B4-005793AA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5621-CA2D-4053-A12B-804C9023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C5D-29FF-4460-A4C0-DB28FC56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070C-FD4B-47F3-A075-CFE3DB3C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3F77-67FD-4D6C-92EB-B62B280B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C6FA-ED82-4AC5-96D3-7C44867B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9F14-E217-4257-B79A-4E5F9DB2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225F-C9DF-4B98-BEAA-2A253001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1AA-C336-4595-A3D0-785CEA9B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A12-C19B-4141-8A1D-D1DB770C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713-F006-4C0F-B53B-A9F138E1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EE1-0962-4B27-93FC-289785FA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FED-0FE1-434E-84DF-21657813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A10-75AC-4CC7-999C-E48F4CF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D73-8CAE-4AA3-B393-351A4532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DC9D-5DE3-4205-83EA-9A4C200A73A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E924-D974-4F44-808F-AD09F4A79CD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rcRect l="36855" t="12844" r="35250" b="43012"/>
          <a:stretch/>
        </p:blipFill>
        <p:spPr>
          <a:xfrm>
            <a:off x="4038480" y="533520"/>
            <a:ext cx="587520" cy="585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роект бюджета Новоминского сельского поселения Каневского района на 2019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609480"/>
            <a:ext cx="8228880" cy="5499000"/>
            <a:chOff x="457200" y="609480"/>
            <a:chExt cx="8228880" cy="5499000"/>
          </a:xfrm>
        </p:grpSpPr>
        <p:cxnSp>
          <p:nvCxnSpPr>
            <p:cNvPr id="159" name="_s7182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5461200" y="191808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7181"/>
            <p:cNvCxnSpPr>
              <a:stCxn id="163" idx="0"/>
              <a:endCxn id="161" idx="2"/>
            </p:cNvCxnSpPr>
            <p:nvPr/>
          </p:nvCxnSpPr>
          <p:spPr>
            <a:xfrm flipV="1">
              <a:off x="4571280" y="2808360"/>
              <a:ext cx="3240" cy="110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7180"/>
            <p:cNvCxnSpPr>
              <a:stCxn id="165" idx="0"/>
              <a:endCxn id="161" idx="2"/>
            </p:cNvCxnSpPr>
            <p:nvPr/>
          </p:nvCxnSpPr>
          <p:spPr>
            <a:xfrm flipH="1" flipV="1" rot="5400000">
              <a:off x="2581200" y="191844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1" name="_s7176"/>
            <p:cNvSpPr/>
            <p:nvPr/>
          </p:nvSpPr>
          <p:spPr>
            <a:xfrm>
              <a:off x="3337200" y="6094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Основа формирова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бюджета Новомин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на 2019 годы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7177"/>
            <p:cNvSpPr/>
            <p:nvPr/>
          </p:nvSpPr>
          <p:spPr>
            <a:xfrm>
              <a:off x="45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но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оциально-экономиче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звития Новомин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7178"/>
            <p:cNvSpPr/>
            <p:nvPr/>
          </p:nvSpPr>
          <p:spPr>
            <a:xfrm>
              <a:off x="333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Основные направл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Бюджет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и налоговой политики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на 2019 годы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7179"/>
            <p:cNvSpPr/>
            <p:nvPr/>
          </p:nvSpPr>
          <p:spPr>
            <a:xfrm>
              <a:off x="621756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Муниципальны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рамм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Канев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йо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сновные параметры проекта бюджета Новоминского сельского поселения на 2019 год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71600" y="1600200"/>
          <a:ext cx="6629400" cy="469260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о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налоговые и неналоговые дох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9885,1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безвозмездные поступл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051,4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в том числе дотация на выравнивание бюджетной обеспече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Рас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ефицит (-), профицит (+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бъем налоговых и неналоговых доходов бюджета Новоминского сельского поселения на 2018 год составил 39885,1 тыс. рубле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 на доходы физических лиц – 1560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Акцизы по подакцизным товарам (продукции), производимым на территории Российской Федерации  - 5015,1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ЕСХН –119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и на имущество – 18080,0 тыс.руб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Земельный налог -1525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2508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Общий объем расходов на 2019 год – 11496,3 тыс. рубле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щегосударственные вопросы- 8831,7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оборона – 608,1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безопасность и правоохранительная деятельность – 1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экономика – 8955,8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Жилищно-коммунальное хозяйство – 40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разование – 83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ультура, кинематография – 22880,3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циальная политика – 290,6 тыс.руб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Физическая культура и спорт – 2235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служивание государственного и муниципального долга – 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6T06:27:46Z</dcterms:created>
  <dc:creator>Пользователь</dc:creator>
  <dc:description/>
  <dc:language>en-US</dc:language>
  <cp:lastModifiedBy>ГЫУК</cp:lastModifiedBy>
  <dcterms:modified xsi:type="dcterms:W3CDTF">2019-10-18T06:28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